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635E-8DB0-4658-A0BB-E7A49C695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108-6475-4C56-9C98-C4BBC6C3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1D5-D4D1-4E32-B8BD-A05A14F3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F3C-77E1-4121-9E07-8D1C720D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3B9-A778-4EF7-BE10-CEF3EEFE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FB9-3EBB-4713-AED9-B3542C89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216-8644-4998-8E6E-A2132C0B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B56-BF8C-49FB-85B4-76E78ED0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923-8D03-4FE2-AA17-6A0DF981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9D2-4DD9-48AB-9BE3-710A17EB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659-F62F-494E-99AD-6CAF9A1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610-8566-4448-953F-E07A173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8C5-E518-4A7D-AF16-0A2CAF7A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4561-5165-44E6-83BC-51ACF8478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/>
              <a:ahLst/>
              <a:rect l="l" t="t" r="r" b="b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/>
              <a:ahLst/>
              <a:rect l="l" t="t" r="r" b="b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78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/>
                <a:ahLst/>
                <a:rect l="l" t="t" r="r" b="b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/>
            <a:ahLst/>
            <a:rect l="l" t="t" r="r" b="b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/>
            <a:ahLst/>
            <a:rect l="l" t="t" r="r" b="b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 </dc:creator>
  <dc:description/>
  <dc:language>en-US</dc:language>
  <cp:lastModifiedBy>Legion</cp:lastModifiedBy>
  <dcterms:modified xsi:type="dcterms:W3CDTF">2017-01-26T10:33:05Z</dcterms:modified>
  <cp:revision>12</cp:revision>
  <dc:subject/>
  <dc:title>The Sun as an  Energy Source</dc:title>
</cp:coreProperties>
</file>